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9.gif" ContentType="image/gif"/>
  <Override PartName="/ppt/media/image8.wmf" ContentType="image/x-wmf"/>
  <Override PartName="/ppt/media/image12.wmf" ContentType="image/x-wmf"/>
  <Override PartName="/ppt/media/WtchLaff.wav" ContentType="audio/x-wav"/>
  <Override PartName="/ppt/media/image7.wmf" ContentType="image/x-wmf"/>
  <Override PartName="/ppt/media/hersheyb.wav" ContentType="audio/x-wav"/>
  <Override PartName="/ppt/media/image11.wmf" ContentType="image/x-wmf"/>
  <Override PartName="/ppt/media/image6.wmf" ContentType="image/x-wmf"/>
  <Override PartName="/ppt/media/image10.wmf" ContentType="image/x-wmf"/>
  <Override PartName="/ppt/media/image22.gif" ContentType="image/gif"/>
  <Override PartName="/ppt/media/image5.wmf" ContentType="image/x-wmf"/>
  <Override PartName="/ppt/media/image3.wmf" ContentType="image/x-wmf"/>
  <Override PartName="/ppt/media/image2.jpeg" ContentType="image/jpeg"/>
  <Override PartName="/ppt/media/AuldLang.wav" ContentType="audio/x-wav"/>
  <Override PartName="/ppt/media/image4.wmf" ContentType="image/x-wmf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media/image16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5E75-0CEF-42C3-BB85-59B026AD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234-B23E-40E8-8953-AE47822F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5ABA-87BD-4F05-AFC8-4B851FA7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58C-DEA0-4084-95C3-A4DC542E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CD30-358C-42A1-8B8F-80E27CCB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735B-3712-4F53-9C0B-8C1292B9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051B-EA54-469E-9AF7-A5E9A43D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08C4-8C6A-4DDF-B11F-291D43DD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0FFB-DC20-4B23-ADC7-B29B8CE4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4390-88A3-4D39-819F-C262F834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D35F-9B38-47E1-8048-4155C817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0E3-9A1D-4773-93AE-243C529B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8A8B-8F0D-4C1B-935C-EBD9A240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6ACD-C6BF-4A89-9872-7B1C11C9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685E-AAEC-4235-A5D2-65662DA5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FAF6-C87D-4E91-942D-80FD7606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9C21-F241-4BC0-9E44-60C8999C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2F8-D79E-4E8D-A2C4-C9785D26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9B0E-B191-4BB2-B470-42F27B21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EC0-EE5C-43CE-961F-226EAC9C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99C-4C43-4C37-8022-46C5274EA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136-C65C-4D66-BFAD-15FC7A04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0F0-2CA1-445F-8D4F-7D72FE5B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ACD-2B62-4873-AB9D-164A2AB2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D04E-C6A5-46EF-83D2-D9A63BE95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6D81-85E4-4C32-8960-ADE94FC3CDA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WtchLaff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audio" Target="../media/hersheyb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audio" Target="../media/AuldLang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1447560"/>
            <a:ext cx="6019920" cy="23619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Matura MT Script Capitals"/>
              </a:rPr>
              <a:t>Traditions and </a:t>
            </a:r>
            <a:br>
              <a:rPr sz="4800"/>
            </a:br>
            <a:r>
              <a:rPr b="0" lang="et-EE" sz="4800" spc="-1" strike="noStrike">
                <a:solidFill>
                  <a:srgbClr val="000000"/>
                </a:solidFill>
                <a:latin typeface="Matura MT Script Capitals"/>
              </a:rPr>
              <a:t>Customs in Great Britain</a:t>
            </a:r>
            <a:endParaRPr b="0" lang="en-US" sz="48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The London Marathon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ne of the biggest marathons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Each year about 30,000 people start the race and about 25,000 fin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aise money for ch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78360" y="1981080"/>
            <a:ext cx="26910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May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May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pagan festival to celebrate the end of winter and welcome sum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hildren dance around the maypole and sing so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57800" y="2219400"/>
            <a:ext cx="3733920" cy="3636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Chelsea Flower Show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Britain’s most important flower and garden sh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ousands of people come to see the prize flowers and specially built gard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03760" y="1981080"/>
            <a:ext cx="3040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Midsummer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June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ummer solst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stay up until midnight to welcome in midsummer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When the fires die down, men run or jump through it to bring good lu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010280" y="2057400"/>
            <a:ext cx="1689120" cy="334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105520" y="3809880"/>
            <a:ext cx="2103480" cy="1737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Trooping The Colour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second Saturday in Ju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elebrates the Queen’s official birth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Lots of marching, military music and the soldiers are dressed in colourful uni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248520" y="1981080"/>
            <a:ext cx="17524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Saint Swithin’s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July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aint Swithin was England’s Bishop of Winche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40 days of bad weather will follow if it rains on thi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157800" y="1981080"/>
            <a:ext cx="193356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Wimbledon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last week of July and the first week of Ju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t Wimbledon in South-West Lond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ne of the four great world tennis championships and the only one which is played on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57800" y="2070000"/>
            <a:ext cx="3733920" cy="39355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Notting Hill Carnival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last weekend in Augu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akes place in Notting H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dress up in fabulous costu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teel bands play African and Caribbean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Harvest Festivals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Septemb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Christian festiv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t was held to say thank you to God for a good harv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hurches are decorated with fruit, vegetables and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57800" y="2055960"/>
            <a:ext cx="3733920" cy="3965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Halloween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ctober 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pagan festival celebrates the return of the souls that visit their former ho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dress up as witches, ghost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Houses are decorated with pumpk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57800" y="2090880"/>
            <a:ext cx="3733920" cy="3894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WtchLaff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800" spc="-1" strike="noStrike">
                <a:solidFill>
                  <a:srgbClr val="000000"/>
                </a:solidFill>
                <a:latin typeface="Script MT Bold"/>
              </a:rPr>
              <a:t>Januar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Script MT Bold"/>
              </a:rPr>
              <a:t>New Year’s Day (Jan 1)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the beginning of the new year. People make resol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Script MT Bold"/>
              </a:rPr>
              <a:t>Twelfth Night (Jan 6)-</a:t>
            </a:r>
            <a:r>
              <a:rPr b="0" lang="et-EE" sz="3200" spc="-1" strike="noStrike">
                <a:solidFill>
                  <a:srgbClr val="000000"/>
                </a:solidFill>
                <a:latin typeface="Times New Roman"/>
              </a:rPr>
              <a:t>a party after the Christmas break and before the return to work in the fie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Guy Fawke’s Night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November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He was a terror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day marks the discovery of a plot to blow up Parliament in 16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make models of him and burn them on big bonfi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2433600"/>
            <a:ext cx="3733920" cy="3208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Christmas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ecember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Religious ceremony commemorating the birth of Chr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Children wake up early to find presents in their stock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raditional Christmas tree and din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419720" cy="2962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hersheyb.wav"/>
      </p:stSnd>
    </p:sndAc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Boxing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ecember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t is usually spent in front of the TV, recovering from Christmas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ervants go from house to house with collecting box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57800" y="2781360"/>
            <a:ext cx="373392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New Year’s Eve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December 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raditionally Scottish celeb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t midnight everybody joins hands and sings Auld Lang Sy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57800" y="2529000"/>
            <a:ext cx="3733920" cy="3019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2" name="AuldLang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Crufts Dog Show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Febru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Valuable dogs from all over the world compete in Birmingh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best dog gets the title Crufts Supreme Champ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56360" y="2092320"/>
            <a:ext cx="3735360" cy="3890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Saint Valentine’s Day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February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Was started in the time of Roman Emp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s dedicated to St. Valent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send a card to someone they love, like, fancy or adm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899320" y="1981080"/>
            <a:ext cx="24494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The Boat Race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M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rowing race between the universities of Oxford and Cambri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On the river Thames in London (7,2 k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257800" y="2735280"/>
            <a:ext cx="3733920" cy="2604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Pancake Day 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M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last day before L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ancake race-running while holding a pancake in a frying pan. Competitors have to throw it in the air and catch it again in the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257800" y="2494080"/>
            <a:ext cx="3733920" cy="3089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April Fool’s 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pril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A day of practical jok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You have to play the joke before 12 o’clock midday, otherwise the joke is on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57800" y="2211480"/>
            <a:ext cx="3733920" cy="3652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Good Friday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Friday before Ea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church marks the death of Chri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British usually eat hot-cross buns, which are marked on top with cro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83400" y="1981080"/>
            <a:ext cx="26812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800" spc="-1" strike="noStrike">
                <a:solidFill>
                  <a:srgbClr val="000000"/>
                </a:solidFill>
                <a:latin typeface="Script MT Bold"/>
              </a:rPr>
              <a:t>Easter</a:t>
            </a:r>
            <a:endParaRPr b="0" lang="en-US" sz="48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In Apr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The celebration of the Resurrection of Chr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Schools are closed for two wee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Times New Roman"/>
              </a:rPr>
              <a:t>People give each other chocolate eggs that are wrapped in silver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81640" y="1447920"/>
            <a:ext cx="35337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06:17:02Z</dcterms:created>
  <dc:creator>kasutaja15</dc:creator>
  <dc:description/>
  <dc:language>en-US</dc:language>
  <cp:lastModifiedBy>powerful</cp:lastModifiedBy>
  <dcterms:modified xsi:type="dcterms:W3CDTF">2012-04-17T16:07:37Z</dcterms:modified>
  <cp:revision>21</cp:revision>
  <dc:subject/>
  <dc:title>Traditions and  Customs in Great Britain</dc:title>
</cp:coreProperties>
</file>